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bf40"/>
                </a:solidFill>
                <a:latin typeface="Arial Unicode MS"/>
              </a:rPr>
              <a:t>Click to move the slide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B67-07ED-45F9-94C2-1F8A40912F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Las notas que aparece en la parte inferior no se visualizarán cuando se encuentre en modo presentación la diapositi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 poder incluir un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hipervínculo en el índice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seguir los siguiente pasos: 1. Posicionarte sobre el título donde quieres enlazar; 2. Seleccionar de la barra de herramientas: Insertar&gt;Hipervínculo; 3. Aparecerá una pantalla donde deberás introducir la dirección donde quieres enlazar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Si deseas incluir en la parte inferior de la diapositiva un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 título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 debes realizar los siguientes pasos, que se tratarían de dos acciones que son necesarias de realizar para poder incluir el título: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. Seleccionar en la barra de herramientas: Ver&gt; Patrón&gt; Patrón de diapositiva&gt; Diseño de patrón&gt;Introducir el título&gt;Cerrar diapositiva&gt;Guardar. 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1 Seleccionar en la barra de herramientas: Ver&gt;Encabezamiento y pie de página&gt;Hacer click en pie de página, pero dejar el título en blanco, ya que anteriormente se ha introducido&gt;Dar a la opción de “Aplicar a todas las diapositiva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59120"/>
            <a:ext cx="8147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1560" y="159984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6640" y="159984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5912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1560" y="375912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6640" y="375912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140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59120"/>
            <a:ext cx="8147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59120"/>
            <a:ext cx="8147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140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560" y="159984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640" y="159984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5912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560" y="375912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640" y="3759120"/>
            <a:ext cx="262332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75912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599840"/>
            <a:ext cx="39754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59120"/>
            <a:ext cx="81471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bf40"/>
                </a:solidFill>
                <a:latin typeface="Arial Unicode MS"/>
              </a:rPr>
              <a:t>Click to edit the title text format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Click to edit the outline text format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6670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Second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6670c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3" marL="1600200" indent="-228600">
              <a:spcBef>
                <a:spcPts val="451"/>
              </a:spcBef>
              <a:buClr>
                <a:srgbClr val="6670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4" marL="2057400" indent="-228600">
              <a:spcBef>
                <a:spcPts val="451"/>
              </a:spcBef>
              <a:buClr>
                <a:srgbClr val="667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557280" y="6219720"/>
            <a:ext cx="387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6156360" y="652464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 Unicode MS"/>
              </a:rPr>
              <a:t>BIBLIOTECA NACIONAL DE ESPAÑA</a:t>
            </a:r>
            <a:endParaRPr b="0" lang="en-US" sz="800" spc="-1" strike="noStrike">
              <a:solidFill>
                <a:srgbClr val="252a71"/>
              </a:solidFill>
              <a:latin typeface="Arial Unicode MS"/>
            </a:endParaRPr>
          </a:p>
        </p:txBody>
      </p:sp>
      <p:pic>
        <p:nvPicPr>
          <p:cNvPr id="4" name="Picture 11" descr="Sin título-3"/>
          <p:cNvPicPr/>
          <p:nvPr/>
        </p:nvPicPr>
        <p:blipFill>
          <a:blip r:embed="rId3"/>
          <a:stretch/>
        </p:blipFill>
        <p:spPr>
          <a:xfrm>
            <a:off x="8244000" y="6450120"/>
            <a:ext cx="36828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228960" y="6381360"/>
            <a:ext cx="584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0f1996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f1996"/>
                </a:solidFill>
                <a:latin typeface="Times New Roman"/>
                <a:ea typeface="Times New Roman"/>
              </a:rPr>
              <a:t>Esquemas de codificación de cadenas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57200" y="1600200"/>
            <a:ext cx="814716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bf40"/>
                </a:solidFill>
                <a:latin typeface="Arial Unicode MS"/>
              </a:rPr>
              <a:t>Click to edit the title text format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Click to edit the outline text format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6670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Second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6670c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Third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3" marL="1600200" indent="-228600">
              <a:spcBef>
                <a:spcPts val="451"/>
              </a:spcBef>
              <a:buClr>
                <a:srgbClr val="6670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Four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4" marL="2057400" indent="-228600">
              <a:spcBef>
                <a:spcPts val="451"/>
              </a:spcBef>
              <a:buClr>
                <a:srgbClr val="6670c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Fif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Six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a71"/>
                </a:solidFill>
                <a:latin typeface="Arial Unicode MS"/>
              </a:rPr>
              <a:t>Seventh Outline Leve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rda-rsc.org/sites/all/files/Glennan-SES-OpCo-2020.pdf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276280"/>
            <a:ext cx="3889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24ccb"/>
                </a:solidFill>
                <a:latin typeface="Arial Unicode MS"/>
              </a:rPr>
              <a:t>Departamento de Proceso Técnico</a:t>
            </a:r>
            <a:endParaRPr b="1" lang="en-US" sz="12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00000" y="40053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KATHY G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NNAN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</a:rPr>
              <a:t>-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residenta del Comité Directivo de RDA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Jefa de Catalogación de Colecciones Original y Especializada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 la Universidad de Maryland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ferencias del Comité de Operaciones del Programa para la Catalogación Cooperativa</a:t>
            </a:r>
            <a:endParaRPr b="0" lang="en-US" sz="11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(</a:t>
            </a:r>
            <a:r>
              <a:rPr b="0" lang="es-ES_tradnl" sz="11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CC Op</a:t>
            </a:r>
            <a:r>
              <a:rPr b="0" lang="es-ES" sz="11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</a:t>
            </a:r>
            <a:r>
              <a:rPr b="0" lang="es-ES_tradnl" sz="11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) </a:t>
            </a:r>
            <a:r>
              <a:rPr b="0" lang="es-ES_tradnl" sz="1100" spc="-1" strike="noStrike">
                <a:solidFill>
                  <a:srgbClr val="252a71"/>
                </a:solidFill>
                <a:latin typeface="Arial Unicode MS"/>
              </a:rPr>
              <a:t>/ 21 de mayo de 2020</a:t>
            </a:r>
            <a:endParaRPr b="0" lang="en-US" sz="11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900000" y="2816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20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00000" y="327672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Vocabulario de las comunidades en RDA</a:t>
            </a:r>
            <a:endParaRPr b="0" lang="en-US" sz="2000" spc="-1" strike="noStrike">
              <a:solidFill>
                <a:srgbClr val="252a71"/>
              </a:solidFill>
              <a:latin typeface="Arial Unicode MS"/>
            </a:endParaRPr>
          </a:p>
        </p:txBody>
      </p:sp>
      <p:pic>
        <p:nvPicPr>
          <p:cNvPr id="93" name="Picture 21" descr="DestacadoClearBlue"/>
          <p:cNvPicPr/>
          <p:nvPr/>
        </p:nvPicPr>
        <p:blipFill>
          <a:blip r:embed="rId2"/>
          <a:stretch/>
        </p:blipFill>
        <p:spPr>
          <a:xfrm>
            <a:off x="5292720" y="122400"/>
            <a:ext cx="3672000" cy="1290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900000" y="5284800"/>
            <a:ext cx="601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daptación y trad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ción de la </a:t>
            </a:r>
            <a:r>
              <a:rPr b="0" lang="es-ES_tradnl" sz="1400" spc="-1" strike="noStrike" u="sng">
                <a:solidFill>
                  <a:srgbClr val="33ccff"/>
                </a:solidFill>
                <a:uFillTx/>
                <a:latin typeface="Arial Unicode MS"/>
                <a:ea typeface="Times New Roman"/>
                <a:hlinkClick r:id="rId3"/>
              </a:rPr>
              <a:t>presentación original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por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VÁN PÉREZ MARINAS - Dep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tamento de Proce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 T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é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nico de la BN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95" name="Object 9"/>
          <p:cNvGraphicFramePr/>
          <p:nvPr/>
        </p:nvGraphicFramePr>
        <p:xfrm>
          <a:off x="7162920" y="3733920"/>
          <a:ext cx="1390680" cy="142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3733920"/>
                    <a:ext cx="139068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6858000" y="5257800"/>
          <a:ext cx="179064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5257800"/>
                    <a:ext cx="17906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Estrategia nº 3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1471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raslada las instrucciones de ECCC a las políticas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(imagen de 23.68.15.86 – contenido y formato</a:t>
            </a: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a modo de muestra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)</a:t>
            </a:r>
            <a:r>
              <a:rPr b="1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68360" y="3467880"/>
            <a:ext cx="50450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PCIÓN</a:t>
            </a:r>
            <a:r>
              <a:rPr b="1" lang="es-ES" sz="12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cluya el término </a:t>
            </a:r>
            <a:r>
              <a:rPr b="0" i="1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anto 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 no ser que la persona sea un papa, emperador, emperatriz, rey o rein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076720" y="2405880"/>
            <a:ext cx="3240360" cy="1051560"/>
          </a:xfrm>
          <a:prstGeom prst="rect">
            <a:avLst/>
          </a:prstGeom>
          <a:solidFill>
            <a:srgbClr val="ffb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N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cluya el término </a:t>
            </a:r>
            <a:r>
              <a:rPr b="0" i="1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anto o Santa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, aun cuando se trate de un papa, rey o rein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757080" y="649908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527040" y="2351160"/>
            <a:ext cx="4448160" cy="1085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Decisión del Comité Directivo de RDA – Estrategia nº 3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 estrategia 3, del uso de las políticas, minimiza la proliferación de opciones en páginas de elemento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resenta claramente a los catalogadores, en el contexto de una página de elementos, la decisión del ECCC de una comunidad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l sistema de gestión del contenido del Toolkit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soporta l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 reutilización de las instrucciones actuales de RDA.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s decisiones y mantenimiento se dejan para las comunidades, pero..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i la preferencia es continuar las prácticas del Toolkit original, no es necesario ningún otro trabajo intelectual nuev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sa la información de ISBD y el Apéndice E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i la preferencia son los datos enlazados, los ECCC son irrelevante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Vocabularios de las comunidades en RDA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pic>
        <p:nvPicPr>
          <p:cNvPr id="170" name="Picture 21" descr="DestacadoClearBlue"/>
          <p:cNvPicPr/>
          <p:nvPr/>
        </p:nvPicPr>
        <p:blipFill>
          <a:blip r:embed="rId1"/>
          <a:stretch/>
        </p:blipFill>
        <p:spPr>
          <a:xfrm>
            <a:off x="5292720" y="122400"/>
            <a:ext cx="3672000" cy="12906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Estimulados por una mayor internacionalización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s instrucciones y las directrices en RDA heredadas de normas anteriores (en gran parte intactas de AACR2) tienen un enfoque angloamerican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y símbolo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strucciones adicionales sobre nombres de persona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so de letras mayúscula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tículos iniciale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lgunos contenidos ya han sido reubicados desde las instrucciones de RDA a una sección separada dentro de “Recursos” (o “Herramientas” en el Toolkit original)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os de la Biblia (en 2016)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medio de interpretación (en 2018)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Apoya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n</a:t>
            </a: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do elecciones diferentes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s diferentes comunidades catalográficas tienen preferencias diferente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 todas se ajustan a prácticas angloamericana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s comunidades pueden querer apoyar la interoperabilidad con los datos antiguos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-33264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s preferencias de las comunidades catalográficas pueden cambiar con el tiempo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ado que han evolucionado las prácticas de la comunidad del PCC (Programa para la Catalogación Cooperativa), ¿aún deberíamos aplicar el Apéndice B del Toolkit original (Abreviaturas y símbolos)?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-33264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DA necesita apoyar el desarrollo, mantenimiento y publicación de vocabularios locales como parte del Toolkit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-277200">
              <a:spcBef>
                <a:spcPts val="400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 identificó como una solución a largo plazo para la propuesta fallida de ALA de añadir más términos de género en 9.7.1.3 (en 2015)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n desarrollo –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 la espera de más cambios a lo largo de 2020</a:t>
            </a:r>
            <a:r>
              <a:rPr b="1" i="1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las comunidades: características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formes a RDA (y LRM)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sociados con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l procesamiento de cadenas de caracteres en los ECCC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os esquemas de codificación de vocabularios (ECV) de cada comunidad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Éstos no se ajustan necesariamente a un ECV completo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3" marL="1600200" indent="-228600">
              <a:spcBef>
                <a:spcPts val="400"/>
              </a:spcBef>
              <a:buClr>
                <a:srgbClr val="6670c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os conceptos pueden carecer de definiciones, notas de alcance, IRIs o anotacione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3" marL="1600200" indent="-228600">
              <a:spcBef>
                <a:spcPts val="400"/>
              </a:spcBef>
              <a:buClr>
                <a:srgbClr val="6670c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 cobertura puede ser incompleta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tilizados sólo por comunidades de RDA específica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ubren un número limitado de idiomas y escritura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 mantienen por expertos en idiomas, escrituras y/o culturas específica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i continúan las prácticas existentes, no es necesario ningún trabajo intelectual nuevo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 requiere de traducciones en todos los idiomas del Toolkit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Una transición en proceso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71160" y="1219320"/>
            <a:ext cx="2902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abla de recursos</a:t>
            </a:r>
            <a:r>
              <a:rPr b="1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oolkit beta – Feb. 2020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466160" y="1219320"/>
            <a:ext cx="2978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abla de recursos</a:t>
            </a:r>
            <a:r>
              <a:rPr b="1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oolkit beta – Abril 2020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187" name="Object 7"/>
          <p:cNvGraphicFramePr/>
          <p:nvPr/>
        </p:nvGraphicFramePr>
        <p:xfrm>
          <a:off x="838080" y="1981080"/>
          <a:ext cx="173376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17337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8"/>
          <p:cNvGraphicFramePr/>
          <p:nvPr/>
        </p:nvGraphicFramePr>
        <p:xfrm>
          <a:off x="4800600" y="1981080"/>
          <a:ext cx="2028960" cy="339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981080"/>
                    <a:ext cx="202896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9"/>
          <p:cNvSpPr/>
          <p:nvPr/>
        </p:nvSpPr>
        <p:spPr>
          <a:xfrm>
            <a:off x="2458440" y="1820160"/>
            <a:ext cx="2434680" cy="42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Glosari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s de codificación d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atriz de relacion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y símbol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strucciones adicionales sobr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de persona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so de letras mayúscula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tículos inicial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Histórico de modificacion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os de la Bibli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medio d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terpretación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ACR2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725880" y="1973880"/>
            <a:ext cx="243468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Glosari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s de codificación d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atriz de relacion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strucciones adicionales sobr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de persona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so de letras mayúscula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tículos inicial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Histórico de modificacion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Vocabularios de comunidad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ACR2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Tabla de recursos: nuevos desplegables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2971800" y="1143000"/>
          <a:ext cx="340992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143000"/>
                    <a:ext cx="340992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6"/>
          <p:cNvSpPr/>
          <p:nvPr/>
        </p:nvSpPr>
        <p:spPr>
          <a:xfrm>
            <a:off x="6240600" y="2397600"/>
            <a:ext cx="29847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strucciones adicionales sobr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de personas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09600" y="2425680"/>
            <a:ext cx="2794320" cy="39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en el alfabeto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árab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birmanos y karénico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chinos que contienen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n nombre de pila no chino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islandese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indoario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indonesio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malayo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romano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romanos qu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tienen un patronímico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mbres tailandese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gistrar apellidos qu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cluyen un artículo y/o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reposición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Tabla de recursos: nuevos desplegables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2619360" y="1566720"/>
          <a:ext cx="3905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9360" y="1566720"/>
                    <a:ext cx="3905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6"/>
          <p:cNvSpPr/>
          <p:nvPr/>
        </p:nvSpPr>
        <p:spPr>
          <a:xfrm>
            <a:off x="6456960" y="3656160"/>
            <a:ext cx="248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so de letras mayúsculas</a:t>
            </a:r>
            <a:r>
              <a:rPr b="1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33000" y="3685680"/>
            <a:ext cx="2286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Guía general para uso d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etras mayúscula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Guía general para uso d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etras mayúsculas en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glé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tros idiomas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Tabla de recursos: nuevos desplegables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graphicFrame>
        <p:nvGraphicFramePr>
          <p:cNvPr id="209" name="Object 5"/>
          <p:cNvGraphicFramePr/>
          <p:nvPr/>
        </p:nvGraphicFramePr>
        <p:xfrm>
          <a:off x="2619360" y="1528920"/>
          <a:ext cx="3905280" cy="38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9360" y="1528920"/>
                    <a:ext cx="3905280" cy="38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6"/>
          <p:cNvSpPr/>
          <p:nvPr/>
        </p:nvSpPr>
        <p:spPr>
          <a:xfrm>
            <a:off x="6507000" y="3960720"/>
            <a:ext cx="1800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tículos iniciales</a:t>
            </a:r>
            <a:r>
              <a:rPr b="1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74600" y="4053960"/>
            <a:ext cx="252324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tículos iniciales ordenados por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diom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tículos iniciales ordenados por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alabra o palabra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¿Qué es un esquema de codificación de cadenas de caracteres (o ECCC)?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gún el Glosario de RDA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: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1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 de codificación de cadenas de caracteres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i="1" lang="es-ES_tradnl" sz="16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Un conjunto de valores de cadenas de car</a:t>
            </a:r>
            <a:r>
              <a:rPr b="0" i="1" lang="es-ES" sz="16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a</a:t>
            </a:r>
            <a:r>
              <a:rPr b="0" i="1" lang="es-ES_tradnl" sz="16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cteres</a:t>
            </a: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y </a:t>
            </a:r>
            <a:r>
              <a:rPr b="0" i="1" lang="es-ES_tradnl" sz="16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un conjunto asociado de reglas</a:t>
            </a: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utilizados para relacionar esas cadenas de caracteres con el </a:t>
            </a:r>
            <a:r>
              <a:rPr b="0" i="1" lang="es-ES_tradnl" sz="16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valor de un elemento</a:t>
            </a: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sado por: esquema de codificación de sintaxis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éase además: </a:t>
            </a:r>
            <a:r>
              <a:rPr b="1" i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lemento</a:t>
            </a:r>
            <a:r>
              <a:rPr b="0" i="1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junto de valores de cadenas de caracteres = cadena/s de caracteres textuales. Ej: Juan Pablo II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junto asociado de reglas = instrucciones  (Reglas de Catalogación)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alor de un elemento = una representación de ese elemento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  (Juan Pablo II, Papa, Santo)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838080" y="1981080"/>
          <a:ext cx="773280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328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Tabla de recursos: nuevos desplegables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16" name="Object 6"/>
          <p:cNvGraphicFramePr/>
          <p:nvPr/>
        </p:nvGraphicFramePr>
        <p:xfrm>
          <a:off x="2590920" y="1143000"/>
          <a:ext cx="3924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3924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7"/>
          <p:cNvSpPr/>
          <p:nvPr/>
        </p:nvSpPr>
        <p:spPr>
          <a:xfrm>
            <a:off x="6415920" y="4265640"/>
            <a:ext cx="2687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 de comunidad</a:t>
            </a:r>
            <a:r>
              <a:rPr b="1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93200" y="4415040"/>
            <a:ext cx="17917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os de la Bibli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títul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lectiv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géner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medio de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terpretación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orrador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de contenido, migrado de las instrucciones del Toolkit existente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23" name="Object 5"/>
          <p:cNvGraphicFramePr/>
          <p:nvPr/>
        </p:nvGraphicFramePr>
        <p:xfrm>
          <a:off x="457200" y="2133720"/>
          <a:ext cx="385776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38577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6"/>
          <p:cNvSpPr/>
          <p:nvPr/>
        </p:nvSpPr>
        <p:spPr>
          <a:xfrm>
            <a:off x="4572000" y="2057400"/>
            <a:ext cx="423396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 &gt; </a:t>
            </a: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 de comunidad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&gt; </a:t>
            </a: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</a:t>
            </a: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2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para países y estados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2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en escritura latina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2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en escritura cirílica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2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en escritura griega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2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breviaturas en escritura hebrea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uevo desplegable para Libros de la Biblia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2514600" y="2286000"/>
          <a:ext cx="405756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405756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7"/>
          <p:cNvSpPr/>
          <p:nvPr/>
        </p:nvSpPr>
        <p:spPr>
          <a:xfrm>
            <a:off x="6585480" y="2589120"/>
            <a:ext cx="1797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os de la Biblia</a:t>
            </a:r>
            <a:r>
              <a:rPr b="1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6240" y="2431800"/>
            <a:ext cx="24789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os de la Biblia: Library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f Congress-Programa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ara la Catalogación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lectiva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finiciones para el mundo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 habla alemana para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gistrar los título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referidos de la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crituras bíblica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os de la Biblia: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iblioteca y Archivos d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anadá-Biblioteca y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rchivos Nacionales de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Quebec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918680" y="5228280"/>
            <a:ext cx="2742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orrador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de contenid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orrador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 contenid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2209680"/>
          <a:ext cx="390528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39052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6"/>
          <p:cNvSpPr/>
          <p:nvPr/>
        </p:nvSpPr>
        <p:spPr>
          <a:xfrm>
            <a:off x="4572000" y="1981080"/>
            <a:ext cx="4572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 &gt; </a:t>
            </a: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 de comunidad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&gt; </a:t>
            </a:r>
            <a:r>
              <a:rPr b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</a:t>
            </a:r>
            <a:r>
              <a:rPr b="1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</a:t>
            </a:r>
            <a:r>
              <a:rPr b="0" lang="es-ES" sz="2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os términos de rango de nobleza, etc. utilizados son: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 en el idioma iban</a:t>
            </a:r>
            <a:r>
              <a:rPr b="1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 utilizados en Francia</a:t>
            </a:r>
            <a:r>
              <a:rPr b="1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 utilizados en Indonesia</a:t>
            </a:r>
            <a:r>
              <a:rPr b="1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de rango utilizados en Reino Unido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2819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orrador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 contenid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152280" y="1523880"/>
          <a:ext cx="492444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49244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6"/>
          <p:cNvSpPr/>
          <p:nvPr/>
        </p:nvSpPr>
        <p:spPr>
          <a:xfrm>
            <a:off x="5029200" y="1447920"/>
            <a:ext cx="4114800" cy="27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 &gt;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 de comunidad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&gt;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títulos colectivos</a:t>
            </a:r>
            <a:r>
              <a:rPr b="1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títulos colectivos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os títulos colectivos convencionales están destinados para su uso como valores de Obra: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ítulo uniforme de obra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5486400" y="3124080"/>
            <a:ext cx="3387600" cy="328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PCIÓN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gistra un término apropiado de la siguiente lista: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rrespondenci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nsay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ibret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etras de cancion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vel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eatr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oesí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rosa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uent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1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iscursos</a:t>
            </a:r>
            <a:r>
              <a:rPr b="0" i="1" lang="es-ES" sz="12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orrador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 contenid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277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53" name="Object 5"/>
          <p:cNvGraphicFramePr/>
          <p:nvPr/>
        </p:nvGraphicFramePr>
        <p:xfrm>
          <a:off x="228600" y="2209680"/>
          <a:ext cx="495288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495288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6"/>
          <p:cNvSpPr/>
          <p:nvPr/>
        </p:nvSpPr>
        <p:spPr>
          <a:xfrm>
            <a:off x="5486400" y="2057400"/>
            <a:ext cx="350532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 &gt;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 de comunidad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&gt;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género</a:t>
            </a:r>
            <a:r>
              <a:rPr b="1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género</a:t>
            </a:r>
            <a:r>
              <a:rPr b="1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os términos están destinados para su uso como valores de Persona: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género.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562720" y="3962520"/>
            <a:ext cx="3387600" cy="2191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PCIÓN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gistra un término apropiado de la siguiente lista: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 algn="just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Femenin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 algn="just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asculin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135000"/>
              </a:lnSpc>
              <a:buClr>
                <a:srgbClr val="252a71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No conocido</a:t>
            </a:r>
            <a:r>
              <a:rPr b="0" i="1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lvl="1" marL="4572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Borrador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 contenid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152280" y="2057400"/>
          <a:ext cx="61531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61531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6"/>
          <p:cNvSpPr/>
          <p:nvPr/>
        </p:nvSpPr>
        <p:spPr>
          <a:xfrm>
            <a:off x="6324480" y="1600200"/>
            <a:ext cx="266724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cursos &gt;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ocabularios de comunidad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&gt;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medio de interpretación</a:t>
            </a:r>
            <a:r>
              <a:rPr b="1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érminos para medio de interpretación</a:t>
            </a:r>
            <a:r>
              <a:rPr b="1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os términos para instrumentos, voces y grupos musicales están destinados para su uso como valores de Expresión: </a:t>
            </a: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dio de interpretación de contenido musical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strumento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tiliza la siguiente lista de términos como guía: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 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helo o violonchelo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 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r anglais o corno inglé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   </a:t>
            </a:r>
            <a:r>
              <a:rPr b="0" lang="es-ES_tradnl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..</a:t>
            </a:r>
            <a:r>
              <a:rPr b="0" lang="es-ES" sz="12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Vocabularios de comunidad: aún por determinar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erminología fina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“Vocabularios de comunidad” es un término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rovisiona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ómo identificar qué comunidad usa qué contenid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Y lo presenta totalmente integrado a los catalogadores de esa comunidad usando el Toolkit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ómo compartir contenid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or ejemplo, si la British Library sigue las decisiones de LC-PCC (Library of Congress-Programa de Catalogación Compartida) en un área particular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teroperabilidad con políticas, perfiles de aplicación y documentación creada por usuario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bicación y visualización en el Toolkit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Información básica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14716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Vocabularios de comunidad en el Toolkit de RDA</a:t>
            </a:r>
            <a:r>
              <a:rPr b="0" lang="es-ES" sz="1400" spc="-1" strike="noStrike">
                <a:solidFill>
                  <a:srgbClr val="0f199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onencia debatida en las Conferencias Asincrónicas del Comité Directivo de RDA de Abril de 2020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(April 20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2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0 Asynch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nous RSC Meeting)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- Disponible en: http://rda-rsc.org/node/633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s de codificación de cadenas de caracteres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onencia debatida en las Conferencias Asincrónicas del Comité Directivo de RDA de Enero de 2020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(January 20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2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0 Asynch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</a:t>
            </a: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nous RSC Meeting)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- Disponible en: http://rda-rsc.org/node/587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- Resumen del debate y la decisión del Comité Directivo de RDA disponible en las actas de las conferencias de enero (punto del orden del día 209): http://www.rda-rsc.org/sites/all/files/Minutes Public January 2020 meeting.pdf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7" descr="edificio_recorte_grisclaroEdit"/>
          <p:cNvPicPr/>
          <p:nvPr/>
        </p:nvPicPr>
        <p:blipFill>
          <a:blip r:embed="rId2"/>
          <a:stretch/>
        </p:blipFill>
        <p:spPr>
          <a:xfrm>
            <a:off x="285840" y="1743120"/>
            <a:ext cx="8572320" cy="3371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24ccb"/>
                </a:solidFill>
                <a:latin typeface="Arial Unicode MS"/>
              </a:rPr>
              <a:t>Biblioteca </a:t>
            </a:r>
            <a:r>
              <a:rPr b="1" lang="es-ES" sz="1800" spc="-1" strike="noStrike">
                <a:solidFill>
                  <a:srgbClr val="424ccb"/>
                </a:solidFill>
                <a:latin typeface="Arial Unicode MS"/>
              </a:rPr>
              <a:t>N</a:t>
            </a:r>
            <a:r>
              <a:rPr b="1" lang="es-ES_tradnl" sz="1800" spc="-1" strike="noStrike">
                <a:solidFill>
                  <a:srgbClr val="424ccb"/>
                </a:solidFill>
                <a:latin typeface="Arial Unicode MS"/>
              </a:rPr>
              <a:t>acional de España</a:t>
            </a:r>
            <a:br>
              <a:rPr sz="1800"/>
            </a:br>
            <a:r>
              <a:rPr b="0" lang="es-ES_tradnl" sz="1800" spc="-1" strike="noStrike">
                <a:solidFill>
                  <a:srgbClr val="94b4d4"/>
                </a:solidFill>
                <a:latin typeface="Arial Unicode MS"/>
              </a:rPr>
              <a:t>Departamento de P</a:t>
            </a:r>
            <a:r>
              <a:rPr b="0" lang="es-ES" sz="1800" spc="-1" strike="noStrike">
                <a:solidFill>
                  <a:srgbClr val="94b4d4"/>
                </a:solidFill>
                <a:latin typeface="Arial Unicode MS"/>
              </a:rPr>
              <a:t>r</a:t>
            </a:r>
            <a:r>
              <a:rPr b="0" lang="es-ES_tradnl" sz="1800" spc="-1" strike="noStrike">
                <a:solidFill>
                  <a:srgbClr val="94b4d4"/>
                </a:solidFill>
                <a:latin typeface="Arial Unicode MS"/>
              </a:rPr>
              <a:t>oceso Técnico</a:t>
            </a:r>
            <a:br>
              <a:rPr sz="1800"/>
            </a:br>
            <a:r>
              <a:rPr b="0" lang="es-ES_tradnl" sz="1800" spc="-1" strike="noStrike">
                <a:solidFill>
                  <a:srgbClr val="33ccff"/>
                </a:solidFill>
                <a:latin typeface="Arial Unicode MS"/>
              </a:rPr>
              <a:t>proceso.tecnico@bne.e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s-ES_tradnl" sz="1800" spc="-1" strike="noStrike">
                <a:solidFill>
                  <a:srgbClr val="424ccb"/>
                </a:solidFill>
                <a:latin typeface="Arial Unicode MS"/>
              </a:rPr>
              <a:t>Pº de Recoletos 20 -22 </a:t>
            </a:r>
            <a:br>
              <a:rPr sz="1800"/>
            </a:br>
            <a:r>
              <a:rPr b="0" lang="es-ES_tradnl" sz="1800" spc="-1" strike="noStrike">
                <a:solidFill>
                  <a:srgbClr val="424ccb"/>
                </a:solidFill>
                <a:latin typeface="Arial Unicode MS"/>
              </a:rPr>
              <a:t>28071 Madrid  </a:t>
            </a:r>
            <a:br>
              <a:rPr sz="1800"/>
            </a:br>
            <a:r>
              <a:rPr b="0" lang="es-ES_tradnl" sz="1800" spc="-1" strike="noStrike">
                <a:solidFill>
                  <a:srgbClr val="424ccb"/>
                </a:solidFill>
                <a:latin typeface="Arial Unicode MS"/>
              </a:rPr>
              <a:t>España</a:t>
            </a:r>
            <a:br>
              <a:rPr sz="1800"/>
            </a:br>
            <a:r>
              <a:rPr b="0" lang="es-ES_tradnl" sz="1800" spc="-1" strike="noStrike">
                <a:solidFill>
                  <a:srgbClr val="424ccb"/>
                </a:solidFill>
                <a:latin typeface="Arial Unicode MS"/>
              </a:rPr>
              <a:t>T +34  915 807 8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996600"/>
                </a:solidFill>
                <a:latin typeface="Arial Unicode MS"/>
              </a:rPr>
              <a:t>www.bne.es</a:t>
            </a:r>
            <a:br>
              <a:rPr sz="1800"/>
            </a:br>
            <a:endParaRPr b="1" lang="en-US" sz="1800" spc="-1" strike="noStrike">
              <a:solidFill>
                <a:srgbClr val="ffbf40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¿Qué 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se entiende por “comunidad” en el contexto de RDA ?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Institución o grupo de instituciones unidas por un algún elemento de interés. Pueden ser, que pueden establecer políticas de aplicación de RDA, vocabularios, directrices, comunes: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Instituciones individuales. (Library of Congress, British Library, BNE)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Grupos de instituciones (PCC)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Comunidades de países o lingüísticas (Países germanoparlantes)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f4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Comunidades profesionales (OLAC, RMBS)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	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¿Qué es un esquema de codificación de cadenas de caracteres (o ECCC)?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n términos de catalogación más tradicional, un ECCC trata de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6670cb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ómo construir un punto de acces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Qué información registrar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 (Papa, Juan Pablo, II, Santo)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n qué orden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(Juan Pablo II Papa Santo)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 qué puntuación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(Juan Pablo II, Papa, Santo)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ómo construir una “mención” sobre una edición, serie, pie de imprenta, etc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as decisiones pueden variar según la tradición o práctica catalográfica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ngloamericana, alemana, noruega, española, etc.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Los ECCC en RDA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na búsqueda de “string encoding scheme” (“esquema de codificación de cadenas de caracteres”) en el Toolkit beta devuelve actualmente 124 resultados, incluyendo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nción de edición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nción de producción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nción de publicación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nción de distribución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nción de fabricación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Mención de serie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nformación de disertación académica o tesis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unto de acceso para...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unto de acceso autorizado para...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unto de acceso alternativo para...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6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6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y la mayoría de los elementos asociados con Nomen</a:t>
            </a: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Los ECCC pueden variar según agencia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Todas estas son formas admitidas en VIAF por al menos una agencia catalográfica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r. Seuss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r. Seuss, pseud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r. Seuss (1904-1991)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Доктор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Сьюз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,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псевд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, 1904-1991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uss, Dr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uss, Dr., 1904-1991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uss, Dr., 1904-1991 (duln. f. Theodor Seuss Geisel)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Сьюз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1904-1991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доктор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n-GB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Geisel, Theodor Seuss, 1904-1991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4800600" y="1981080"/>
          <a:ext cx="352440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4800600" y="1981080"/>
                    <a:ext cx="35244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Pregunta importante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mo norma internacional, ¿cuál es la mejor manera para que RDA acomode estas variantes entre diferentes comunidades?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rategia nº 1: Definir de un modo predeterminado e inamovible los ECCC en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las instrucciones, permitiendo que las comunidades lo apliquen o n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rategia nº 2: Sacar el contenido de las ECCC de las páginas de elementos, 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freciendo en su lugar múltiples alternativas,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permitiendo que las comunidades lo apliquen o n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trategia nº 3: Trasladar el contenido de las ECCC de las páginas de elementos a las políticas de uso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ada estrategia requiere que las comunidades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terminen los ECCC apropiados para cada situación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70cb"/>
                </a:solidFill>
                <a:latin typeface="Arial Unicode MS"/>
              </a:rPr>
              <a:t>-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reen unas políticas que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Identifiquen la opción diseñada (estrategias nº 1 y nº 2), 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670cb"/>
              </a:buClr>
              <a:buFont typeface="Arial Unicode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tengan las instrucciones en sí (estrategia nº 3)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Rectángulo"/>
          <p:cNvSpPr/>
          <p:nvPr/>
        </p:nvSpPr>
        <p:spPr>
          <a:xfrm>
            <a:off x="380880" y="1557360"/>
            <a:ext cx="5181840" cy="79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Estrategia nº 1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14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efine de un modo predeterminado e inamovible las instrucciones de ECCC para cada variante – </a:t>
            </a:r>
            <a:r>
              <a:rPr b="0" lang="es-ES" sz="18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simulación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0880" y="1493640"/>
            <a:ext cx="5181840" cy="377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 DE CODIFICACIÓN DE CADENAS DE CARACTERE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Registre un valor que incluya, en este orden: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1. un valor de Agente: </a:t>
            </a:r>
            <a:r>
              <a:rPr b="0" lang="es-ES_tradnl" sz="18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punto de acceso para agente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2. un valor de un punto de acceso principal para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na obra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Aplica el modelo de puntuación de cadenas de caracteres: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“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valor 1. valor 2”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ne cada uno de los valores con un punto final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    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seguido de un espacio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80880" y="5438520"/>
            <a:ext cx="5181840" cy="93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 DE CODIFICACIÓN DE CADENAS DE CARACTERES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Registra un valor que incluya, en este orden: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.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grpSp>
        <p:nvGrpSpPr>
          <p:cNvPr id="133" name="Text Box 11"/>
          <p:cNvGrpSpPr/>
          <p:nvPr/>
        </p:nvGrpSpPr>
        <p:grpSpPr>
          <a:xfrm>
            <a:off x="5522760" y="2523960"/>
            <a:ext cx="3157560" cy="517680"/>
            <a:chOff x="5522760" y="2523960"/>
            <a:chExt cx="3157560" cy="517680"/>
          </a:xfrm>
        </p:grpSpPr>
        <p:pic>
          <p:nvPicPr>
            <p:cNvPr id="134" name="Text Box 11" descr=""/>
            <p:cNvPicPr/>
            <p:nvPr/>
          </p:nvPicPr>
          <p:blipFill>
            <a:blip r:embed="rId1"/>
            <a:stretch/>
          </p:blipFill>
          <p:spPr>
            <a:xfrm>
              <a:off x="5522760" y="2523960"/>
              <a:ext cx="31575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566680" y="2637000"/>
              <a:ext cx="3068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*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Práctica de BN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: Aplique esta opción.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252a71"/>
                </a:solidFill>
                <a:latin typeface="Arial Unicode MS"/>
              </a:endParaRPr>
            </a:p>
          </p:txBody>
        </p:sp>
      </p:grpSp>
      <p:sp>
        <p:nvSpPr>
          <p:cNvPr id="136" name="Rectangle 7"/>
          <p:cNvSpPr/>
          <p:nvPr/>
        </p:nvSpPr>
        <p:spPr>
          <a:xfrm>
            <a:off x="-268200" y="651816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grpSp>
        <p:nvGrpSpPr>
          <p:cNvPr id="137" name="Text Box 11"/>
          <p:cNvGrpSpPr/>
          <p:nvPr/>
        </p:nvGrpSpPr>
        <p:grpSpPr>
          <a:xfrm>
            <a:off x="5522760" y="5645160"/>
            <a:ext cx="3395880" cy="517680"/>
            <a:chOff x="5522760" y="5645160"/>
            <a:chExt cx="3395880" cy="517680"/>
          </a:xfrm>
        </p:grpSpPr>
        <p:pic>
          <p:nvPicPr>
            <p:cNvPr id="138" name="Text Box 11" descr=""/>
            <p:cNvPicPr/>
            <p:nvPr/>
          </p:nvPicPr>
          <p:blipFill>
            <a:blip r:embed="rId2"/>
            <a:stretch/>
          </p:blipFill>
          <p:spPr>
            <a:xfrm>
              <a:off x="5522760" y="5645160"/>
              <a:ext cx="33958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567760" y="5761440"/>
              <a:ext cx="3304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*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Práctica de BN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: No aplique esta opción.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252a71"/>
                </a:solidFill>
                <a:latin typeface="Arial Unicode MS"/>
              </a:endParaRPr>
            </a:p>
          </p:txBody>
        </p:sp>
      </p:grp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bf40"/>
                </a:solidFill>
                <a:latin typeface="Arial Unicode MS"/>
                <a:ea typeface="Times New Roman"/>
              </a:rPr>
              <a:t>Estrategia nº 2</a:t>
            </a:r>
            <a:r>
              <a:rPr b="1" lang="es-ES" sz="2000" spc="-1" strike="noStrike">
                <a:solidFill>
                  <a:srgbClr val="ffbf4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ffbf40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440" y="119664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bf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Dar información sobre los ECC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 a través de múltiples enlaces – </a:t>
            </a:r>
            <a:r>
              <a:rPr b="0" lang="es-ES_tradnl" sz="1800" spc="-1" strike="noStrike" u="sng">
                <a:solidFill>
                  <a:srgbClr val="252a71"/>
                </a:solidFill>
                <a:uFillTx/>
                <a:latin typeface="Arial Unicode MS"/>
                <a:ea typeface="Times New Roman"/>
              </a:rPr>
              <a:t>simulación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61578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98480" y="2058120"/>
            <a:ext cx="6674400" cy="957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CONDICIÓN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na obra es una </a:t>
            </a:r>
            <a:r>
              <a:rPr b="0" i="1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bra individual</a:t>
            </a: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.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Una obra es creada por dos o más agentes en colaboración.</a:t>
            </a:r>
            <a:r>
              <a:rPr b="0" lang="es-ES" sz="18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817560" y="4418640"/>
            <a:ext cx="4172040" cy="76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PCIÓN 2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 de codificación de cadenas de caractere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jemplo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817560" y="5485320"/>
            <a:ext cx="4172040" cy="76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PCIÓN 3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 de codificación de cadenas de caractere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jemplo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2120" y="3351600"/>
            <a:ext cx="4314600" cy="76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OPCIÓN 1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squema de codificación de cadenas de caracteres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52a71"/>
                </a:solidFill>
                <a:latin typeface="Arial Unicode MS"/>
                <a:ea typeface="Times New Roman"/>
              </a:rPr>
              <a:t>Ejemplo</a:t>
            </a:r>
            <a:r>
              <a:rPr b="0" lang="es-ES" sz="1400" spc="-1" strike="noStrike">
                <a:solidFill>
                  <a:srgbClr val="252a71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252a71"/>
              </a:solidFill>
              <a:latin typeface="Arial Unicode MS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-228600" y="6381720"/>
            <a:ext cx="584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f1996"/>
                </a:solidFill>
                <a:latin typeface="Arial Unicode MS"/>
                <a:ea typeface="Times New Roman"/>
              </a:rPr>
              <a:t>Esquemas de codificación de cadenas de caracteres</a:t>
            </a:r>
            <a:endParaRPr b="0" lang="en-US" sz="1200" spc="-1" strike="noStrike">
              <a:solidFill>
                <a:srgbClr val="252a71"/>
              </a:solidFill>
              <a:latin typeface="Arial Unicode MS"/>
            </a:endParaRPr>
          </a:p>
        </p:txBody>
      </p:sp>
      <p:grpSp>
        <p:nvGrpSpPr>
          <p:cNvPr id="148" name="Text Box 11"/>
          <p:cNvGrpSpPr/>
          <p:nvPr/>
        </p:nvGrpSpPr>
        <p:grpSpPr>
          <a:xfrm>
            <a:off x="5321160" y="3475080"/>
            <a:ext cx="3395880" cy="517320"/>
            <a:chOff x="5321160" y="3475080"/>
            <a:chExt cx="3395880" cy="517320"/>
          </a:xfrm>
        </p:grpSpPr>
        <p:pic>
          <p:nvPicPr>
            <p:cNvPr id="149" name="Text Box 11" descr=""/>
            <p:cNvPicPr/>
            <p:nvPr/>
          </p:nvPicPr>
          <p:blipFill>
            <a:blip r:embed="rId1"/>
            <a:stretch/>
          </p:blipFill>
          <p:spPr>
            <a:xfrm>
              <a:off x="5321160" y="3475080"/>
              <a:ext cx="33958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365080" y="3588120"/>
              <a:ext cx="3304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*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Práctica de BN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: No aplique esta opción.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252a71"/>
                </a:solidFill>
                <a:latin typeface="Arial Unicode MS"/>
              </a:endParaRPr>
            </a:p>
          </p:txBody>
        </p:sp>
      </p:grpSp>
      <p:grpSp>
        <p:nvGrpSpPr>
          <p:cNvPr id="151" name="Text Box 11"/>
          <p:cNvGrpSpPr/>
          <p:nvPr/>
        </p:nvGrpSpPr>
        <p:grpSpPr>
          <a:xfrm>
            <a:off x="5321160" y="5608800"/>
            <a:ext cx="3152880" cy="517320"/>
            <a:chOff x="5321160" y="5608800"/>
            <a:chExt cx="3152880" cy="517320"/>
          </a:xfrm>
        </p:grpSpPr>
        <p:pic>
          <p:nvPicPr>
            <p:cNvPr id="152" name="Text Box 11" descr=""/>
            <p:cNvPicPr/>
            <p:nvPr/>
          </p:nvPicPr>
          <p:blipFill>
            <a:blip r:embed="rId2"/>
            <a:stretch/>
          </p:blipFill>
          <p:spPr>
            <a:xfrm>
              <a:off x="5321160" y="5608800"/>
              <a:ext cx="31528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363640" y="5721480"/>
              <a:ext cx="3068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*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Práctica de BN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: Aplique esta opción.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252a71"/>
                </a:solidFill>
                <a:latin typeface="Arial Unicode MS"/>
              </a:endParaRPr>
            </a:p>
          </p:txBody>
        </p:sp>
      </p:grpSp>
      <p:grpSp>
        <p:nvGrpSpPr>
          <p:cNvPr id="154" name="Text Box 11"/>
          <p:cNvGrpSpPr/>
          <p:nvPr/>
        </p:nvGrpSpPr>
        <p:grpSpPr>
          <a:xfrm>
            <a:off x="5321160" y="4541760"/>
            <a:ext cx="3395880" cy="517680"/>
            <a:chOff x="5321160" y="4541760"/>
            <a:chExt cx="3395880" cy="517680"/>
          </a:xfrm>
        </p:grpSpPr>
        <p:pic>
          <p:nvPicPr>
            <p:cNvPr id="155" name="Text Box 11" descr=""/>
            <p:cNvPicPr/>
            <p:nvPr/>
          </p:nvPicPr>
          <p:blipFill>
            <a:blip r:embed="rId3"/>
            <a:stretch/>
          </p:blipFill>
          <p:spPr>
            <a:xfrm>
              <a:off x="5321160" y="4541760"/>
              <a:ext cx="33958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365080" y="4654800"/>
              <a:ext cx="3304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*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Práctica de BNE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: No aplique esta opción.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200" spc="-1" strike="noStrike">
                <a:solidFill>
                  <a:srgbClr val="252a71"/>
                </a:solidFill>
                <a:latin typeface="Arial Unicode MS"/>
              </a:endParaRPr>
            </a:p>
          </p:txBody>
        </p:sp>
      </p:grp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1:54:29Z</dcterms:created>
  <dc:creator>Santos Muñoz, Ricardo</dc:creator>
  <dc:description/>
  <dc:language>en-US</dc:language>
  <cp:lastModifiedBy>Santos Muñoz, Ricardo</cp:lastModifiedBy>
  <dcterms:modified xsi:type="dcterms:W3CDTF">2020-07-03T11:04:33Z</dcterms:modified>
  <cp:revision>158</cp:revision>
  <dc:subject/>
  <dc:title>Departamento, Área o Unidad</dc:title>
</cp:coreProperties>
</file>